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5B5-5A37-4F72-AC63-767318D0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D1C-9D1E-4D86-9AB8-1C2C6F62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4FD-EFBF-4426-A0E3-EB0809B6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9B6-B8EA-4660-9AE1-3F69E204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74C-88AF-40DE-A842-B91530C5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4E8-0513-480D-9027-298AFCC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398-9985-4A63-9CA6-A00CF07D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CCC-D6C2-4A20-9078-58A33028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648-7A29-4F40-9FE4-9DCDE933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E45-36C4-4250-A26E-96C2E5B2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FB9-6D5F-44D0-8296-9604178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6F5-28D4-4987-8CAF-FE24E67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2E3B-17F7-44C1-BE58-4D03D26FC31C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What Is Migration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g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defined as a permanent or semi-permanent change in where someone li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, if you and your family move to Australia due to your dad getting a job out there, you have all migr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ll go Australia for a three week holiday, then you have not mig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a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migrate only for a short period. Turkish immigrant workers to Germany may only go there for a period of month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made a semi-permanent move so can be classified as migra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as chalet-maids in a ski resort for the winter also could be classified as having made a semi-permanent mig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rations fall into two grou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nt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ere the migrant decides to mo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c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ere the migrant has little choice but to mov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Migratio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igration is the permanent or semi-permanent movement from one place to another. This can be within the same country, or be between countri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untry or place from which the migrant begins is called the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origin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untry or place to which the migrant travels is called the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destination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 between the origin and the destination the migrant is described as being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en-route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king De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ecision to migrate can be a very complex one, or could simply be for one reas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igration normally involves considering the positive aspects of the move (called the pull factors) and the negative reasons for the move (called the push factor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ush Vs Pu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ush factor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the things encouraging someone to move from a place. These include losing your job, having few friends remaining in the area, the cost of living, poor resources and no employment prospe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ull factor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the things that entice someone to a new place. They could include such things as a warmer climate, better job prospects, a larger salary, better standard of living, more friends and family, better public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n-Route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-route factors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r intervening obstacles, are things that might hinder the migrati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se could include transport difficulties, passport and visa requirements and a lack of sufficient money to complete the migrati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4:22:01Z</dcterms:created>
  <dc:creator>Dell_02</dc:creator>
  <dc:description/>
  <dc:language>en-US</dc:language>
  <cp:lastModifiedBy>Dell_02</cp:lastModifiedBy>
  <dcterms:modified xsi:type="dcterms:W3CDTF">2011-01-25T04:35:00Z</dcterms:modified>
  <cp:revision>2</cp:revision>
  <dc:subject/>
  <dc:title>What Is Migration?</dc:title>
</cp:coreProperties>
</file>